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397-56A8-4944-9BA3-2452115F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501-63DD-493C-83BF-A6C18560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E1A-CCE1-4A08-8AC6-14E652CE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30B-D939-4A01-9F56-1BFF57E2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251-3A7C-4ED5-B80F-F44E1AC3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AB0-D4F2-4EA4-A941-411F6868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940-FC37-4980-99F5-6E3972A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200-8C96-4690-BDE3-ECF667F4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D69-75ED-4B84-BDCB-23E66C14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ABA-4AFB-4E7E-BC22-B677461A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25D-8E4D-4789-9442-4C4CC15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A17-F0F1-476F-B642-9F36220B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6EEF-A320-4C8D-AA3B-8AFC1356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Water and 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00120" y="196056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ack Van 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ropical Rainfores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ropical rainforest have the most species than all the other bi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ozens of plant and animals live in t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ertain plants ,such as orchids, survive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ropical rainforests are found in all the continents except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4876920"/>
            <a:ext cx="2152800" cy="1982520"/>
            <a:chOff x="0" y="4876920"/>
            <a:chExt cx="2152800" cy="1982520"/>
          </a:xfrm>
        </p:grpSpPr>
        <p:pic>
          <p:nvPicPr>
            <p:cNvPr id="170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4876920"/>
              <a:ext cx="2152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4"/>
            <p:cNvSpPr/>
            <p:nvPr/>
          </p:nvSpPr>
          <p:spPr>
            <a:xfrm>
              <a:off x="611280" y="64911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152800" y="4876920"/>
            <a:ext cx="2620800" cy="1990440"/>
            <a:chOff x="2152800" y="4876920"/>
            <a:chExt cx="2620800" cy="1990440"/>
          </a:xfrm>
        </p:grpSpPr>
        <p:pic>
          <p:nvPicPr>
            <p:cNvPr id="173" name="Picture 7" descr=""/>
            <p:cNvPicPr/>
            <p:nvPr/>
          </p:nvPicPr>
          <p:blipFill>
            <a:blip r:embed="rId3"/>
            <a:stretch/>
          </p:blipFill>
          <p:spPr>
            <a:xfrm>
              <a:off x="2152800" y="4876920"/>
              <a:ext cx="2620800" cy="19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5"/>
            <p:cNvSpPr/>
            <p:nvPr/>
          </p:nvSpPr>
          <p:spPr>
            <a:xfrm>
              <a:off x="2441160" y="64008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jagu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73600" y="4876920"/>
            <a:ext cx="2236680" cy="2076480"/>
            <a:chOff x="4773600" y="4876920"/>
            <a:chExt cx="2236680" cy="2076480"/>
          </a:xfrm>
        </p:grpSpPr>
        <p:pic>
          <p:nvPicPr>
            <p:cNvPr id="176" name="Picture 5" descr=""/>
            <p:cNvPicPr/>
            <p:nvPr/>
          </p:nvPicPr>
          <p:blipFill>
            <a:blip r:embed="rId4"/>
            <a:stretch/>
          </p:blipFill>
          <p:spPr>
            <a:xfrm>
              <a:off x="4773600" y="4876920"/>
              <a:ext cx="2236680" cy="20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6"/>
            <p:cNvSpPr/>
            <p:nvPr/>
          </p:nvSpPr>
          <p:spPr>
            <a:xfrm>
              <a:off x="5032440" y="65851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oral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010280" y="4876920"/>
            <a:ext cx="2133720" cy="2076480"/>
            <a:chOff x="7010280" y="4876920"/>
            <a:chExt cx="2133720" cy="2076480"/>
          </a:xfrm>
        </p:grpSpPr>
        <p:pic>
          <p:nvPicPr>
            <p:cNvPr id="179" name="Picture 3" descr=""/>
            <p:cNvPicPr/>
            <p:nvPr/>
          </p:nvPicPr>
          <p:blipFill>
            <a:blip r:embed="rId5"/>
            <a:stretch/>
          </p:blipFill>
          <p:spPr>
            <a:xfrm>
              <a:off x="7010280" y="4876920"/>
              <a:ext cx="2133720" cy="20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>
              <a:off x="7318440" y="658512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leph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8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Deciduous Fores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nakes and salamanders live under ground in the win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rabbits color changes in the win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 population will get bi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ost deciduous forest is found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4876920"/>
            <a:ext cx="2286000" cy="1981080"/>
            <a:chOff x="0" y="4876920"/>
            <a:chExt cx="2286000" cy="1981080"/>
          </a:xfrm>
        </p:grpSpPr>
        <p:pic>
          <p:nvPicPr>
            <p:cNvPr id="185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4876920"/>
              <a:ext cx="2286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2"/>
            <p:cNvSpPr/>
            <p:nvPr/>
          </p:nvSpPr>
          <p:spPr>
            <a:xfrm>
              <a:off x="138600" y="63612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286000" y="4876920"/>
            <a:ext cx="2286000" cy="1981080"/>
            <a:chOff x="2286000" y="4876920"/>
            <a:chExt cx="2286000" cy="1981080"/>
          </a:xfrm>
        </p:grpSpPr>
        <p:pic>
          <p:nvPicPr>
            <p:cNvPr id="188" name="Picture 9" descr="th?id=H"/>
            <p:cNvPicPr/>
            <p:nvPr/>
          </p:nvPicPr>
          <p:blipFill>
            <a:blip r:embed="rId3"/>
            <a:stretch/>
          </p:blipFill>
          <p:spPr>
            <a:xfrm>
              <a:off x="2286000" y="4876920"/>
              <a:ext cx="2286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3"/>
            <p:cNvSpPr/>
            <p:nvPr/>
          </p:nvSpPr>
          <p:spPr>
            <a:xfrm>
              <a:off x="2424960" y="636120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lack 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572000" y="4876920"/>
            <a:ext cx="2685960" cy="1981080"/>
            <a:chOff x="4572000" y="4876920"/>
            <a:chExt cx="2685960" cy="1981080"/>
          </a:xfrm>
        </p:grpSpPr>
        <p:pic>
          <p:nvPicPr>
            <p:cNvPr id="191" name="Picture 11" descr="th?id=I"/>
            <p:cNvPicPr/>
            <p:nvPr/>
          </p:nvPicPr>
          <p:blipFill>
            <a:blip r:embed="rId4"/>
            <a:stretch/>
          </p:blipFill>
          <p:spPr>
            <a:xfrm>
              <a:off x="4572000" y="4876920"/>
              <a:ext cx="26859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4"/>
            <p:cNvSpPr/>
            <p:nvPr/>
          </p:nvSpPr>
          <p:spPr>
            <a:xfrm>
              <a:off x="4787640" y="6361200"/>
              <a:ext cx="157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hitetail d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238880" y="4876920"/>
            <a:ext cx="1905120" cy="1981080"/>
            <a:chOff x="7238880" y="4876920"/>
            <a:chExt cx="1905120" cy="1981080"/>
          </a:xfrm>
        </p:grpSpPr>
        <p:pic>
          <p:nvPicPr>
            <p:cNvPr id="194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7238880" y="4876920"/>
              <a:ext cx="1905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6"/>
            <p:cNvSpPr/>
            <p:nvPr/>
          </p:nvSpPr>
          <p:spPr>
            <a:xfrm>
              <a:off x="7455240" y="628488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oodpec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1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Grass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ts tall grass protects animals from predato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ead grass turns into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populations change when there habit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ocations are in the Midwest one bi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rassland stretches Mexico to Canad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"/>
          <p:cNvGrpSpPr/>
          <p:nvPr/>
        </p:nvGrpSpPr>
        <p:grpSpPr>
          <a:xfrm>
            <a:off x="0" y="4952880"/>
            <a:ext cx="2438280" cy="1906920"/>
            <a:chOff x="0" y="4952880"/>
            <a:chExt cx="2438280" cy="1906920"/>
          </a:xfrm>
        </p:grpSpPr>
        <p:pic>
          <p:nvPicPr>
            <p:cNvPr id="48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4952880"/>
              <a:ext cx="24382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2"/>
            <p:cNvSpPr/>
            <p:nvPr/>
          </p:nvSpPr>
          <p:spPr>
            <a:xfrm>
              <a:off x="1440" y="64915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Grey 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"/>
          <p:cNvGrpSpPr/>
          <p:nvPr/>
        </p:nvGrpSpPr>
        <p:grpSpPr>
          <a:xfrm>
            <a:off x="2438280" y="4952880"/>
            <a:ext cx="1981440" cy="1906560"/>
            <a:chOff x="2438280" y="4952880"/>
            <a:chExt cx="1981440" cy="1906560"/>
          </a:xfrm>
        </p:grpSpPr>
        <p:pic>
          <p:nvPicPr>
            <p:cNvPr id="51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438280" y="4952880"/>
              <a:ext cx="19814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4"/>
            <p:cNvSpPr/>
            <p:nvPr/>
          </p:nvSpPr>
          <p:spPr>
            <a:xfrm>
              <a:off x="2438280" y="62168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Purple cr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419720" y="4952880"/>
            <a:ext cx="2133360" cy="1906560"/>
            <a:chOff x="4419720" y="4952880"/>
            <a:chExt cx="2133360" cy="1906560"/>
          </a:xfrm>
        </p:grpSpPr>
        <p:pic>
          <p:nvPicPr>
            <p:cNvPr id="54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4419720" y="4952880"/>
              <a:ext cx="21333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5"/>
            <p:cNvSpPr/>
            <p:nvPr/>
          </p:nvSpPr>
          <p:spPr>
            <a:xfrm>
              <a:off x="4421880" y="64911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Pine 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553080" y="4952880"/>
            <a:ext cx="2590920" cy="1906560"/>
            <a:chOff x="6553080" y="4952880"/>
            <a:chExt cx="2590920" cy="1906560"/>
          </a:xfrm>
        </p:grpSpPr>
        <p:pic>
          <p:nvPicPr>
            <p:cNvPr id="57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553080" y="4952880"/>
              <a:ext cx="25909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6"/>
            <p:cNvSpPr/>
            <p:nvPr/>
          </p:nvSpPr>
          <p:spPr>
            <a:xfrm>
              <a:off x="7565760" y="6491160"/>
              <a:ext cx="157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hitetail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grpSp>
          <p:nvGrpSpPr>
            <p:cNvPr id="60" name=""/>
            <p:cNvGrpSpPr/>
            <p:nvPr/>
          </p:nvGrpSpPr>
          <p:grpSpPr>
            <a:xfrm>
              <a:off x="0" y="0"/>
              <a:ext cx="9144000" cy="6859440"/>
              <a:chOff x="0" y="0"/>
              <a:chExt cx="9144000" cy="6859440"/>
            </a:xfrm>
          </p:grpSpPr>
          <p:pic>
            <p:nvPicPr>
              <p:cNvPr id="61" name="Picture 18" descr="th?id=I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510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1" descr="th?id=I"/>
              <p:cNvPicPr/>
              <p:nvPr/>
            </p:nvPicPr>
            <p:blipFill>
              <a:blip r:embed="rId2"/>
              <a:stretch/>
            </p:blipFill>
            <p:spPr>
              <a:xfrm>
                <a:off x="4419720" y="5105520"/>
                <a:ext cx="25146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14"/>
              <p:cNvSpPr/>
              <p:nvPr/>
            </p:nvSpPr>
            <p:spPr>
              <a:xfrm>
                <a:off x="4422960" y="6491160"/>
                <a:ext cx="158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llard duck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" name="Picture 7" descr="th?id=I"/>
            <p:cNvPicPr/>
            <p:nvPr/>
          </p:nvPicPr>
          <p:blipFill>
            <a:blip r:embed="rId3"/>
            <a:stretch/>
          </p:blipFill>
          <p:spPr>
            <a:xfrm>
              <a:off x="6934320" y="5029200"/>
              <a:ext cx="22096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5"/>
            <p:cNvSpPr/>
            <p:nvPr/>
          </p:nvSpPr>
          <p:spPr>
            <a:xfrm>
              <a:off x="7012800" y="649116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lack 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aig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eedles help trees survive the cold cond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eedles are leaves that m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food for th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needles last 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rough the whol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One Can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aiga biomes goes all the way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nad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5105520"/>
            <a:ext cx="4419720" cy="1753920"/>
            <a:chOff x="0" y="5105520"/>
            <a:chExt cx="4419720" cy="1753920"/>
          </a:xfrm>
        </p:grpSpPr>
        <p:pic>
          <p:nvPicPr>
            <p:cNvPr id="69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2362320" y="5105520"/>
              <a:ext cx="2057400" cy="17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0" y="5105520"/>
              <a:ext cx="2362320" cy="1753920"/>
              <a:chOff x="0" y="5105520"/>
              <a:chExt cx="2362320" cy="1753920"/>
            </a:xfrm>
          </p:grpSpPr>
          <p:pic>
            <p:nvPicPr>
              <p:cNvPr id="71" name="Picture 5" descr="th?id=I"/>
              <p:cNvPicPr/>
              <p:nvPr/>
            </p:nvPicPr>
            <p:blipFill>
              <a:blip r:embed="rId5"/>
              <a:stretch/>
            </p:blipFill>
            <p:spPr>
              <a:xfrm>
                <a:off x="0" y="5105520"/>
                <a:ext cx="23623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12"/>
              <p:cNvSpPr/>
              <p:nvPr/>
            </p:nvSpPr>
            <p:spPr>
              <a:xfrm>
                <a:off x="2520" y="649116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o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13"/>
            <p:cNvSpPr/>
            <p:nvPr/>
          </p:nvSpPr>
          <p:spPr>
            <a:xfrm>
              <a:off x="2364480" y="64911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Pine 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1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undr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f a population grows larger than the carrying 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pa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an organisms will not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o meet their nee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will need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ove to another area that has 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ost of them are found along the north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asts of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5105520"/>
            <a:ext cx="2362320" cy="1752480"/>
            <a:chOff x="0" y="5105520"/>
            <a:chExt cx="2362320" cy="1752480"/>
          </a:xfrm>
        </p:grpSpPr>
        <p:pic>
          <p:nvPicPr>
            <p:cNvPr id="78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5105520"/>
              <a:ext cx="23623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/>
            <p:cNvSpPr/>
            <p:nvPr/>
          </p:nvSpPr>
          <p:spPr>
            <a:xfrm>
              <a:off x="1222200" y="52578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362320" y="5105520"/>
            <a:ext cx="2209680" cy="1852560"/>
            <a:chOff x="2362320" y="5105520"/>
            <a:chExt cx="2209680" cy="1852560"/>
          </a:xfrm>
        </p:grpSpPr>
        <p:pic>
          <p:nvPicPr>
            <p:cNvPr id="81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362320" y="5105520"/>
              <a:ext cx="2209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7"/>
            <p:cNvSpPr/>
            <p:nvPr/>
          </p:nvSpPr>
          <p:spPr>
            <a:xfrm>
              <a:off x="2425320" y="658980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lic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572000" y="5105520"/>
            <a:ext cx="2438280" cy="1753920"/>
            <a:chOff x="4572000" y="5105520"/>
            <a:chExt cx="2438280" cy="1753920"/>
          </a:xfrm>
        </p:grpSpPr>
        <p:pic>
          <p:nvPicPr>
            <p:cNvPr id="84" name="Picture 15" descr="th?id=I"/>
            <p:cNvPicPr/>
            <p:nvPr/>
          </p:nvPicPr>
          <p:blipFill>
            <a:blip r:embed="rId4"/>
            <a:stretch/>
          </p:blipFill>
          <p:spPr>
            <a:xfrm>
              <a:off x="4572000" y="5105520"/>
              <a:ext cx="24382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8"/>
            <p:cNvSpPr/>
            <p:nvPr/>
          </p:nvSpPr>
          <p:spPr>
            <a:xfrm>
              <a:off x="4574880" y="649116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lar be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994440" y="5105520"/>
            <a:ext cx="2149560" cy="1908720"/>
            <a:chOff x="6994440" y="5105520"/>
            <a:chExt cx="2149560" cy="1908720"/>
          </a:xfrm>
        </p:grpSpPr>
        <p:pic>
          <p:nvPicPr>
            <p:cNvPr id="87" name="Picture 13" descr="th?id=I"/>
            <p:cNvPicPr/>
            <p:nvPr/>
          </p:nvPicPr>
          <p:blipFill>
            <a:blip r:embed="rId5"/>
            <a:stretch/>
          </p:blipFill>
          <p:spPr>
            <a:xfrm>
              <a:off x="7010280" y="5105520"/>
              <a:ext cx="2133720" cy="181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9"/>
            <p:cNvSpPr/>
            <p:nvPr/>
          </p:nvSpPr>
          <p:spPr>
            <a:xfrm>
              <a:off x="6994440" y="6645960"/>
              <a:ext cx="11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Grey 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Deser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se roots quickly take up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o de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ith high temperatures many animals 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uring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ome animals dig into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round to c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largest deserts are found in north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frica and southwe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5257800"/>
            <a:ext cx="2133720" cy="1600200"/>
            <a:chOff x="0" y="5257800"/>
            <a:chExt cx="2133720" cy="1600200"/>
          </a:xfrm>
        </p:grpSpPr>
        <p:pic>
          <p:nvPicPr>
            <p:cNvPr id="95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525780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6"/>
            <p:cNvSpPr/>
            <p:nvPr/>
          </p:nvSpPr>
          <p:spPr>
            <a:xfrm>
              <a:off x="3600" y="632448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ighorn she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5257800"/>
            <a:ext cx="2523960" cy="1601640"/>
            <a:chOff x="2133720" y="5257800"/>
            <a:chExt cx="2523960" cy="1601640"/>
          </a:xfrm>
        </p:grpSpPr>
        <p:pic>
          <p:nvPicPr>
            <p:cNvPr id="98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133720" y="5257800"/>
              <a:ext cx="25239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7"/>
            <p:cNvSpPr/>
            <p:nvPr/>
          </p:nvSpPr>
          <p:spPr>
            <a:xfrm>
              <a:off x="2364120" y="64911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ac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48320" y="5257800"/>
            <a:ext cx="2286000" cy="1600200"/>
            <a:chOff x="4648320" y="5257800"/>
            <a:chExt cx="2286000" cy="1600200"/>
          </a:xfrm>
        </p:grpSpPr>
        <p:pic>
          <p:nvPicPr>
            <p:cNvPr id="101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4648320" y="5257800"/>
              <a:ext cx="22860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9"/>
            <p:cNvSpPr/>
            <p:nvPr/>
          </p:nvSpPr>
          <p:spPr>
            <a:xfrm>
              <a:off x="4786920" y="6361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obc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934320" y="5257800"/>
            <a:ext cx="2209680" cy="1600200"/>
            <a:chOff x="6934320" y="5257800"/>
            <a:chExt cx="2209680" cy="1600200"/>
          </a:xfrm>
        </p:grpSpPr>
        <p:pic>
          <p:nvPicPr>
            <p:cNvPr id="104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934320" y="5257800"/>
              <a:ext cx="22096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0"/>
            <p:cNvSpPr/>
            <p:nvPr/>
          </p:nvSpPr>
          <p:spPr>
            <a:xfrm>
              <a:off x="7149240" y="63612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8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River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ifferent kinds of rivers have different ki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of organis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ome animals live only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rivers that flow slow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are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trong enough to live in the rivers that f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Mississippi river is the largest river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orth Americ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5105520"/>
            <a:ext cx="2286000" cy="1752480"/>
            <a:chOff x="0" y="5105520"/>
            <a:chExt cx="2286000" cy="1752480"/>
          </a:xfrm>
        </p:grpSpPr>
        <p:pic>
          <p:nvPicPr>
            <p:cNvPr id="110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5105520"/>
              <a:ext cx="2286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/>
            <p:cNvSpPr/>
            <p:nvPr/>
          </p:nvSpPr>
          <p:spPr>
            <a:xfrm>
              <a:off x="216000" y="63612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alley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5105520"/>
            <a:ext cx="2438280" cy="1752480"/>
            <a:chOff x="2286000" y="5105520"/>
            <a:chExt cx="2438280" cy="1752480"/>
          </a:xfrm>
        </p:grpSpPr>
        <p:pic>
          <p:nvPicPr>
            <p:cNvPr id="113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286000" y="5105520"/>
              <a:ext cx="24382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4"/>
            <p:cNvSpPr/>
            <p:nvPr/>
          </p:nvSpPr>
          <p:spPr>
            <a:xfrm>
              <a:off x="2501280" y="628488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sturg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724280" y="5105520"/>
            <a:ext cx="2057400" cy="1752480"/>
            <a:chOff x="4724280" y="5105520"/>
            <a:chExt cx="2057400" cy="1752480"/>
          </a:xfrm>
        </p:grpSpPr>
        <p:pic>
          <p:nvPicPr>
            <p:cNvPr id="116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4724280" y="5105520"/>
              <a:ext cx="20574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5"/>
            <p:cNvSpPr/>
            <p:nvPr/>
          </p:nvSpPr>
          <p:spPr>
            <a:xfrm>
              <a:off x="4787640" y="636120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seawe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705720" y="5105520"/>
            <a:ext cx="2438280" cy="1752480"/>
            <a:chOff x="6705720" y="5105520"/>
            <a:chExt cx="2438280" cy="1752480"/>
          </a:xfrm>
        </p:grpSpPr>
        <p:pic>
          <p:nvPicPr>
            <p:cNvPr id="119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705720" y="5105520"/>
              <a:ext cx="24382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6"/>
            <p:cNvSpPr/>
            <p:nvPr/>
          </p:nvSpPr>
          <p:spPr>
            <a:xfrm>
              <a:off x="7123320" y="6437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b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0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Wet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re are many kinds of wetla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 swa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s another kind of wetland with many tr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bus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etlands are very helpful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any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any kinds of wetlands are all over f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worl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4952880"/>
            <a:ext cx="2438280" cy="1905120"/>
            <a:chOff x="0" y="4952880"/>
            <a:chExt cx="2438280" cy="1905120"/>
          </a:xfrm>
        </p:grpSpPr>
        <p:pic>
          <p:nvPicPr>
            <p:cNvPr id="125" name="Picture 7" descr="th?id=I"/>
            <p:cNvPicPr/>
            <p:nvPr/>
          </p:nvPicPr>
          <p:blipFill>
            <a:blip r:embed="rId2"/>
            <a:stretch/>
          </p:blipFill>
          <p:spPr>
            <a:xfrm>
              <a:off x="0" y="4952880"/>
              <a:ext cx="24382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5"/>
            <p:cNvSpPr/>
            <p:nvPr/>
          </p:nvSpPr>
          <p:spPr>
            <a:xfrm>
              <a:off x="216000" y="636120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allig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438280" y="4952880"/>
            <a:ext cx="2638440" cy="1905120"/>
            <a:chOff x="2438280" y="4952880"/>
            <a:chExt cx="2638440" cy="1905120"/>
          </a:xfrm>
        </p:grpSpPr>
        <p:pic>
          <p:nvPicPr>
            <p:cNvPr id="128" name="Picture 13" descr="th?id=I"/>
            <p:cNvPicPr/>
            <p:nvPr/>
          </p:nvPicPr>
          <p:blipFill>
            <a:blip r:embed="rId3"/>
            <a:stretch/>
          </p:blipFill>
          <p:spPr>
            <a:xfrm>
              <a:off x="2438280" y="4952880"/>
              <a:ext cx="26384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6"/>
            <p:cNvSpPr/>
            <p:nvPr/>
          </p:nvSpPr>
          <p:spPr>
            <a:xfrm>
              <a:off x="2730240" y="628488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Lily p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029200" y="4952880"/>
            <a:ext cx="1980720" cy="1905120"/>
            <a:chOff x="5029200" y="4952880"/>
            <a:chExt cx="1980720" cy="1905120"/>
          </a:xfrm>
        </p:grpSpPr>
        <p:pic>
          <p:nvPicPr>
            <p:cNvPr id="131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5029200" y="4952880"/>
              <a:ext cx="19807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7"/>
            <p:cNvSpPr/>
            <p:nvPr/>
          </p:nvSpPr>
          <p:spPr>
            <a:xfrm>
              <a:off x="5427360" y="628488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leop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010280" y="4952880"/>
            <a:ext cx="2133720" cy="1905120"/>
            <a:chOff x="7010280" y="4952880"/>
            <a:chExt cx="2133720" cy="1905120"/>
          </a:xfrm>
        </p:grpSpPr>
        <p:pic>
          <p:nvPicPr>
            <p:cNvPr id="134" name="Picture 5" descr="th?id=I"/>
            <p:cNvPicPr/>
            <p:nvPr/>
          </p:nvPicPr>
          <p:blipFill>
            <a:blip r:embed="rId5"/>
            <a:stretch/>
          </p:blipFill>
          <p:spPr>
            <a:xfrm>
              <a:off x="7010280" y="4952880"/>
              <a:ext cx="21337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8"/>
            <p:cNvSpPr/>
            <p:nvPr/>
          </p:nvSpPr>
          <p:spPr>
            <a:xfrm>
              <a:off x="7072920" y="6437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7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ral Reef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rals are animals that have a special related with alga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ome algae carry 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photosynthe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will grow only in shallow warm wa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ral reefs are very important eco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4648320"/>
            <a:ext cx="2286000" cy="2209680"/>
            <a:chOff x="0" y="4648320"/>
            <a:chExt cx="2286000" cy="2209680"/>
          </a:xfrm>
        </p:grpSpPr>
        <p:pic>
          <p:nvPicPr>
            <p:cNvPr id="140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4648320"/>
              <a:ext cx="2286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2"/>
            <p:cNvSpPr/>
            <p:nvPr/>
          </p:nvSpPr>
          <p:spPr>
            <a:xfrm>
              <a:off x="139320" y="62848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oral reef 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4648320"/>
            <a:ext cx="2448000" cy="2209680"/>
            <a:chOff x="2286000" y="4648320"/>
            <a:chExt cx="2448000" cy="2209680"/>
          </a:xfrm>
        </p:grpSpPr>
        <p:pic>
          <p:nvPicPr>
            <p:cNvPr id="143" name="Picture 11" descr="th?id=I"/>
            <p:cNvPicPr/>
            <p:nvPr/>
          </p:nvPicPr>
          <p:blipFill>
            <a:blip r:embed="rId3"/>
            <a:stretch/>
          </p:blipFill>
          <p:spPr>
            <a:xfrm>
              <a:off x="2286000" y="4648320"/>
              <a:ext cx="2448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3"/>
            <p:cNvSpPr/>
            <p:nvPr/>
          </p:nvSpPr>
          <p:spPr>
            <a:xfrm>
              <a:off x="2577240" y="6208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lk ho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724280" y="4648320"/>
            <a:ext cx="2210040" cy="2209680"/>
            <a:chOff x="4724280" y="4648320"/>
            <a:chExt cx="2210040" cy="2209680"/>
          </a:xfrm>
        </p:grpSpPr>
        <p:pic>
          <p:nvPicPr>
            <p:cNvPr id="146" name="Picture 9" descr="th?id=I"/>
            <p:cNvPicPr/>
            <p:nvPr/>
          </p:nvPicPr>
          <p:blipFill>
            <a:blip r:embed="rId4"/>
            <a:stretch/>
          </p:blipFill>
          <p:spPr>
            <a:xfrm>
              <a:off x="4724280" y="4648320"/>
              <a:ext cx="22100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4"/>
            <p:cNvSpPr/>
            <p:nvPr/>
          </p:nvSpPr>
          <p:spPr>
            <a:xfrm>
              <a:off x="5015880" y="620856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sting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934320" y="4648320"/>
            <a:ext cx="2209680" cy="2209680"/>
            <a:chOff x="6934320" y="4648320"/>
            <a:chExt cx="2209680" cy="2209680"/>
          </a:xfrm>
        </p:grpSpPr>
        <p:pic>
          <p:nvPicPr>
            <p:cNvPr id="149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934320" y="464832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5"/>
            <p:cNvSpPr/>
            <p:nvPr/>
          </p:nvSpPr>
          <p:spPr>
            <a:xfrm>
              <a:off x="7149960" y="628488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lown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1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Deep Se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unlight can not reach these cold depth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o plants can not g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any animals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ead plants and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first deep sea vent was discovered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1977 near the Galapagos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4876920"/>
            <a:ext cx="2057400" cy="1981080"/>
            <a:chOff x="0" y="4876920"/>
            <a:chExt cx="2057400" cy="1981080"/>
          </a:xfrm>
        </p:grpSpPr>
        <p:pic>
          <p:nvPicPr>
            <p:cNvPr id="155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0" y="48769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2"/>
            <p:cNvSpPr/>
            <p:nvPr/>
          </p:nvSpPr>
          <p:spPr>
            <a:xfrm>
              <a:off x="138960" y="62848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Sword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057400" y="4876920"/>
            <a:ext cx="2209680" cy="1981080"/>
            <a:chOff x="2057400" y="4876920"/>
            <a:chExt cx="2209680" cy="1981080"/>
          </a:xfrm>
        </p:grpSpPr>
        <p:pic>
          <p:nvPicPr>
            <p:cNvPr id="158" name="Picture 9" descr="th?id=I"/>
            <p:cNvPicPr/>
            <p:nvPr/>
          </p:nvPicPr>
          <p:blipFill>
            <a:blip r:embed="rId3"/>
            <a:stretch/>
          </p:blipFill>
          <p:spPr>
            <a:xfrm>
              <a:off x="2057400" y="4876920"/>
              <a:ext cx="2209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3"/>
            <p:cNvSpPr/>
            <p:nvPr/>
          </p:nvSpPr>
          <p:spPr>
            <a:xfrm>
              <a:off x="2272680" y="6361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Angle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267080" y="4876920"/>
            <a:ext cx="2381400" cy="1981080"/>
            <a:chOff x="4267080" y="4876920"/>
            <a:chExt cx="2381400" cy="1981080"/>
          </a:xfrm>
        </p:grpSpPr>
        <p:pic>
          <p:nvPicPr>
            <p:cNvPr id="161" name="Picture 11" descr="th?id=I"/>
            <p:cNvPicPr/>
            <p:nvPr/>
          </p:nvPicPr>
          <p:blipFill>
            <a:blip r:embed="rId4"/>
            <a:stretch/>
          </p:blipFill>
          <p:spPr>
            <a:xfrm>
              <a:off x="4267080" y="4876920"/>
              <a:ext cx="2381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8"/>
            <p:cNvSpPr/>
            <p:nvPr/>
          </p:nvSpPr>
          <p:spPr>
            <a:xfrm>
              <a:off x="4482360" y="63612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Waho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29400" y="4876920"/>
            <a:ext cx="2514600" cy="1982520"/>
            <a:chOff x="6629400" y="4876920"/>
            <a:chExt cx="2514600" cy="1982520"/>
          </a:xfrm>
        </p:grpSpPr>
        <p:pic>
          <p:nvPicPr>
            <p:cNvPr id="164" name="Picture 7" descr="th?id=I"/>
            <p:cNvPicPr/>
            <p:nvPr/>
          </p:nvPicPr>
          <p:blipFill>
            <a:blip r:embed="rId5"/>
            <a:stretch/>
          </p:blipFill>
          <p:spPr>
            <a:xfrm>
              <a:off x="6629400" y="4876920"/>
              <a:ext cx="25146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9"/>
            <p:cNvSpPr/>
            <p:nvPr/>
          </p:nvSpPr>
          <p:spPr>
            <a:xfrm>
              <a:off x="6921000" y="649116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Nurse 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26:02Z</dcterms:created>
  <dc:creator>JV3200</dc:creator>
  <dc:description/>
  <dc:language>en-US</dc:language>
  <cp:lastModifiedBy>JV3200</cp:lastModifiedBy>
  <dcterms:modified xsi:type="dcterms:W3CDTF">2012-11-12T20:00:37Z</dcterms:modified>
  <cp:revision>13</cp:revision>
  <dc:subject/>
  <dc:title>Water and land biomes</dc:title>
</cp:coreProperties>
</file>